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587D-D9CD-4011-B004-1EFDFEBD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6563-7614-4FDC-9261-22CC83AF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C91-4B21-4173-80C7-15502F51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1F2E-6743-4A32-A7DF-E6AE0748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85D1-6EB9-4CA4-B97A-1F09CAE1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4BD3-FFF3-4DFD-95B9-7768290B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EDD-7342-4654-BA1E-ED04FE72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BFC-1163-46BA-B320-D952C03E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358-872A-47E1-A683-52B1A342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99BF-0C18-473A-8C8F-356151D2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784-CA67-463D-B5C2-43063448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CF2-5628-400D-9541-D7A26A15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696B-3C68-4D1A-AC82-22EDC0A50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izenship &amp; Democrac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.S. History-178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oal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pter 1,2,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3840" y="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99520" y="282600"/>
            <a:ext cx="5752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Pro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oyc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oston Tea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homas Paine; Common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Movement to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ntinental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eclaration of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Revolutionary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“Shot heard round the worl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eaty of Paris 17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Main Point/Summ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912960" y="228600"/>
            <a:ext cx="8463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3: AOC/Road to Constit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et-up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ticles of Con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First Co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Accomplis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W Ordinance of 17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Weak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o power to en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o power to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o power to regulate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o single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o national cou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Hard to amend/fix/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Shay’s Rebell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87440" y="282600"/>
            <a:ext cx="7894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New Co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hiladelphia Convention/Constitutional Con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elegates, e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eorge 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Virginia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cameral;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 Bra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New Jersey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Unicameral; Equ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reat/Connecticut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ca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ouse;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nate;Eq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lav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ree-Fifths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96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7480" y="263520"/>
            <a:ext cx="471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Ra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ed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nti-Fed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ll of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Main Point/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376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067040" y="133200"/>
            <a:ext cx="10253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1: What is Govern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Study of the rights and duties of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Participant’s right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Ruling authority for a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Keep order,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Public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Guid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Lev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National, State,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Fede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Direct 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Representative 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Mo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Authoritarian, Totalitarian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5320" y="304920"/>
            <a:ext cx="5109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Values &amp;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ule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imited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nsent of the Gove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Individual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Representative 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ajority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. Summary/Main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371880" y="39600"/>
            <a:ext cx="6393600" cy="75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1.2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 Citize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Qual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Bi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atu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mmig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li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Im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Old 1600-19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urop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fri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ew 1900-2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atin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East-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outh-No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North-S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. 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Patriotism, Nation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error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4120" y="1219320"/>
            <a:ext cx="832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erican colonies were sett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individuals from many n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theless, the majority of American settl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 from Eng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 rights that American citizens enjo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traced to the political and legal traditions of Eng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nglish people began settling in the Americ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brought with them a tradition of limi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presentative Govern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54760" y="438120"/>
            <a:ext cx="45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Reading! Read Careful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80880"/>
            <a:ext cx="51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249480" y="246240"/>
            <a:ext cx="7547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2: Road to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s of American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English Heri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Magna C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Enlighte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John Lo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Natural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Mo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English Bill of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Common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Colonial 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Social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Separation of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Sel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Limited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525600"/>
            <a:ext cx="86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7400" y="39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7200" y="506520"/>
            <a:ext cx="6191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The First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Jamestown 16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Virginia House of Burg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ow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Mayflower 1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ilgrims/Purit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yflower Co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Religious Pers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riangular Tr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Native Americ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The Co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New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A, RI, NH, 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owns, Ship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53863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01680"/>
            <a:ext cx="7081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Middle Co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Y, PA, NJ,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griculture,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outhern Co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D, VA, NC, SC, 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arge-scale Agricul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la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Colonial Rebe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ercanti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axes (why?) Statutory Neg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Quartering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amp 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oston Mass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No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clamation Act of 17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00:24:39Z</dcterms:created>
  <dc:creator>Chatham County</dc:creator>
  <dc:description/>
  <dc:language>en-US</dc:language>
  <cp:lastModifiedBy>Chatham County</cp:lastModifiedBy>
  <cp:lastPrinted>2008-08-26T12:47:16Z</cp:lastPrinted>
  <dcterms:modified xsi:type="dcterms:W3CDTF">2009-08-09T02:18:42Z</dcterms:modified>
  <cp:revision>1</cp:revision>
  <dc:subject/>
  <dc:title>Citizenship &amp; Democracy U.S. History-1789</dc:title>
</cp:coreProperties>
</file>